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1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.5 - </a:t>
            </a:r>
            <a:fld id="{752E8692-4731-4E5E-886A-0EDFB20A84B2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equalitie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48896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&lt;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≥ 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≥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 3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≤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60199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nd graph the solution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05120"/>
            <a:ext cx="80773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705720" y="1359000"/>
          <a:ext cx="16761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359000"/>
                    <a:ext cx="1676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098880" y="2092320"/>
          <a:ext cx="21844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8880" y="2092320"/>
                    <a:ext cx="2184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84720" y="2701800"/>
          <a:ext cx="166356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4720" y="2701800"/>
                    <a:ext cx="16635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403440" y="3032280"/>
          <a:ext cx="15494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03440" y="3032280"/>
                    <a:ext cx="154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1600200" y="4948200"/>
            <a:ext cx="6311880" cy="160488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685800" y="3908520"/>
            <a:ext cx="7315200" cy="927000"/>
            <a:chOff x="685800" y="3908520"/>
            <a:chExt cx="7315200" cy="927000"/>
          </a:xfrm>
        </p:grpSpPr>
        <p:sp>
          <p:nvSpPr>
            <p:cNvPr id="171" name=""/>
            <p:cNvSpPr/>
            <p:nvPr/>
          </p:nvSpPr>
          <p:spPr>
            <a:xfrm>
              <a:off x="685800" y="4114800"/>
              <a:ext cx="28195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solution set i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3619440" y="3908520"/>
            <a:ext cx="4381560" cy="927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619440" y="3908520"/>
                      <a:ext cx="438156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60199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nd graph the solution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905120"/>
            <a:ext cx="80773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711840" y="1359000"/>
          <a:ext cx="166392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1840" y="1359000"/>
                    <a:ext cx="1663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514600" y="2092320"/>
          <a:ext cx="40384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092320"/>
                    <a:ext cx="4038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806560" y="2701800"/>
          <a:ext cx="382284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6560" y="2701800"/>
                    <a:ext cx="38228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390840" y="3305160"/>
          <a:ext cx="247644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90840" y="3305160"/>
                    <a:ext cx="2476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304920" y="4105440"/>
            <a:ext cx="8642160" cy="653760"/>
            <a:chOff x="304920" y="4105440"/>
            <a:chExt cx="8642160" cy="653760"/>
          </a:xfrm>
        </p:grpSpPr>
        <p:sp>
          <p:nvSpPr>
            <p:cNvPr id="186" name=""/>
            <p:cNvSpPr/>
            <p:nvPr/>
          </p:nvSpPr>
          <p:spPr>
            <a:xfrm>
              <a:off x="304920" y="4114800"/>
              <a:ext cx="28191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solution set i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3154320" y="4105440"/>
            <a:ext cx="579276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54320" y="4105440"/>
                      <a:ext cx="57927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1676520" y="5029200"/>
            <a:ext cx="62769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Equations and Inequalitie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equations with absolut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inequalities with absolut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quation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858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an algebraic expres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or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657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s are –5 and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666880" y="2514600"/>
          <a:ext cx="30607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060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362320" y="1523880"/>
          <a:ext cx="99036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990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90720" y="220968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2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heck, note that –5 and 5 are both 5 units from 0 on the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286000" y="5311800"/>
            <a:ext cx="46353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4864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check the possible solutions –2 and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9880" y="3263760"/>
          <a:ext cx="13845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263760"/>
                    <a:ext cx="1384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311560" y="1523880"/>
          <a:ext cx="195552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1523880"/>
                    <a:ext cx="19555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90720" y="22096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49440" indent="-1549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add one to both sides to get the expression in the form 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4502160"/>
          <a:ext cx="3543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502160"/>
                    <a:ext cx="3543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54320" y="3949560"/>
          <a:ext cx="449568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4320" y="3949560"/>
                    <a:ext cx="4495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6520" y="1244520"/>
            <a:ext cx="52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s are –2 and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33880" y="4572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s are –2 and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2514600"/>
            <a:ext cx="2209680" cy="2362320"/>
            <a:chOff x="762120" y="2514600"/>
            <a:chExt cx="2209680" cy="2362320"/>
          </a:xfrm>
        </p:grpSpPr>
        <p:grpSp>
          <p:nvGrpSpPr>
            <p:cNvPr id="120" name=""/>
            <p:cNvGrpSpPr/>
            <p:nvPr/>
          </p:nvGrpSpPr>
          <p:grpSpPr>
            <a:xfrm>
              <a:off x="762120" y="3048120"/>
              <a:ext cx="2209680" cy="1828800"/>
              <a:chOff x="762120" y="3048120"/>
              <a:chExt cx="2209680" cy="1828800"/>
            </a:xfrm>
          </p:grpSpPr>
          <p:sp>
            <p:nvSpPr>
              <p:cNvPr id="121" name=""/>
              <p:cNvSpPr/>
              <p:nvPr/>
            </p:nvSpPr>
            <p:spPr>
              <a:xfrm>
                <a:off x="762120" y="30481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3048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38280" y="3809880"/>
                <a:ext cx="0" cy="106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4" name=""/>
            <p:cNvGraphicFramePr/>
            <p:nvPr/>
          </p:nvGraphicFramePr>
          <p:xfrm>
            <a:off x="977760" y="2514600"/>
            <a:ext cx="184176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7760" y="2514600"/>
                      <a:ext cx="18417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6" name=""/>
          <p:cNvGraphicFramePr/>
          <p:nvPr/>
        </p:nvGraphicFramePr>
        <p:xfrm>
          <a:off x="571680" y="3225960"/>
          <a:ext cx="24890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225960"/>
                    <a:ext cx="2489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66680" y="3733920"/>
          <a:ext cx="97812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733920"/>
                    <a:ext cx="9781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84200" y="4260960"/>
          <a:ext cx="67320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84200" y="4260960"/>
                    <a:ext cx="6732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854360" y="4686480"/>
          <a:ext cx="1117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4360" y="4686480"/>
                    <a:ext cx="1117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318440" y="4572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846680" y="2514600"/>
            <a:ext cx="2209680" cy="2362320"/>
            <a:chOff x="4846680" y="2514600"/>
            <a:chExt cx="2209680" cy="2362320"/>
          </a:xfrm>
        </p:grpSpPr>
        <p:grpSp>
          <p:nvGrpSpPr>
            <p:cNvPr id="136" name=""/>
            <p:cNvGrpSpPr/>
            <p:nvPr/>
          </p:nvGrpSpPr>
          <p:grpSpPr>
            <a:xfrm>
              <a:off x="4846680" y="3048120"/>
              <a:ext cx="2209680" cy="1828800"/>
              <a:chOff x="4846680" y="3048120"/>
              <a:chExt cx="2209680" cy="1828800"/>
            </a:xfrm>
          </p:grpSpPr>
          <p:sp>
            <p:nvSpPr>
              <p:cNvPr id="137" name=""/>
              <p:cNvSpPr/>
              <p:nvPr/>
            </p:nvSpPr>
            <p:spPr>
              <a:xfrm>
                <a:off x="4846680" y="30481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523200" y="3048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23200" y="3809880"/>
                <a:ext cx="0" cy="106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"/>
            <p:cNvGraphicFramePr/>
            <p:nvPr/>
          </p:nvGraphicFramePr>
          <p:xfrm>
            <a:off x="5062680" y="2514600"/>
            <a:ext cx="1841400" cy="46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62680" y="2514600"/>
                      <a:ext cx="18414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"/>
          <p:cNvGraphicFramePr/>
          <p:nvPr/>
        </p:nvGraphicFramePr>
        <p:xfrm>
          <a:off x="4863960" y="3225960"/>
          <a:ext cx="229896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63960" y="3225960"/>
                    <a:ext cx="2298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359320" y="3733920"/>
          <a:ext cx="787320" cy="469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59320" y="3733920"/>
                    <a:ext cx="7873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68760" y="4260960"/>
          <a:ext cx="673200" cy="30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68760" y="4260960"/>
                    <a:ext cx="6732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938920" y="4686480"/>
          <a:ext cx="111744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38920" y="4686480"/>
                    <a:ext cx="1117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e About Absolute Value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no solution, because the absolute value of an expression is never 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ty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no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64160" y="3568680"/>
          <a:ext cx="47016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4160" y="3568680"/>
                    <a:ext cx="470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equalities with Absolute Valu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qualities sometimes contain absolute-value notation. The following properties are used to sol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an algebraic expres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 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statements hold for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|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15:28:37Z</dcterms:modified>
  <cp:revision>258</cp:revision>
  <dc:subject/>
  <dc:title>No Slide Title</dc:title>
</cp:coreProperties>
</file>